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687-1368-482E-A0F5-57CD935D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CC5-18CE-4C77-A0B1-F239CA4F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DD1-0BA9-4374-A9DF-7AA4B22F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293-D865-4E01-82D2-6E38DE09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E6B-D1D0-4AEE-B03F-1AAE870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154-030B-4869-8783-DAA05F28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B18-4E63-4EA0-98A5-8F2FCDB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9CE-D6A6-441B-99A8-014A744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E09-DED4-468B-ACBE-98F46C67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9DF-4E94-4799-B60D-18B07D34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C0E-B851-4E88-BB70-87CC224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241-7B65-4A16-A9E3-BFAAC3A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378F-A9F1-416E-B0E1-45416C432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chranelibrary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3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Times New Roman"/>
              </a:rPr>
              <a:t>Веома је значајно за израду ра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комбинацију кључних речи навести колико је студија пронађено, а колико је затим укључено односно искључено на основу критеријума за укључивање и искључи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 сваку пронађену па искључену студију навести конкретан разлог искључ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јуми за укључивање и искључивање студија нису исти као и критеријуми за оцену валидности и значајност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3240"/>
            <a:ext cx="6329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НАЛАЖЕЊЕ  ДОК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ИЗВОРИ ИНФОРМАЦИЈ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hran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chrane database of systematic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of Abstracts of Reviews of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LINE, EM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hoo, Lycos, Google,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хранова библиот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36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држи систематске прегледне чланке који су већ обухватили и анализирали претходно публикова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и чланци су урађени по одговарајућој методологији, и може им се веров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ени апстракти су доступни бесплат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век прво тражимо одговор на наше питање у овој бази подат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cochranelibrary.com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P Journal Club on Dis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-Based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ве базе података такође садрже систематске прегледе највишег квалитета, као и Кохранова библиотека, али бесплатно нису доступни ни апстра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ТРАЖИВАЊЕ МЕДЛ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тезауру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специјални речник базе података, по коме су појмови индексира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Користити ограничавајуће факторе, ка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t) – publication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y) – publication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а сту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Kористити и природне ре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а не налазимо адекватне студије помоћу тезаур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истит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ding”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единачни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рм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Тактика претраживањ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у коришћену комбинацију речи забележити, као и пронађене студ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више израза за исти појам, нпр. народни и латински наз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истити опцију “повезани радови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третмани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nical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ized controlled trial (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 therap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apeutic use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про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mort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-up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lity (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nosis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t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к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корисне кључне речи за претраживање МЕДЛ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Ј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етиолог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cohort stu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ds and ratio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and risk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and control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 студије о дијагноз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s (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 sensitivity and specif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tic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ity (t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8:58Z</dcterms:modified>
  <cp:revision>62</cp:revision>
  <dc:subject/>
  <dc:title>Slide 1</dc:title>
</cp:coreProperties>
</file>